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CD1-B2DD-4521-9978-E92B98FE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363-ED7B-4B09-A3B7-35100E6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E6B-6BCD-4ED0-AC90-CC25A2EE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A66-25E6-48A7-91B4-C25397EA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31B-BCDB-4801-9D2B-8E272E6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A9C-63E2-4D46-9BD1-C1DA5184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7EF-EF4E-42F5-B0E5-1F5F9453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664-3973-4517-A180-5C3FD703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F42-0F75-4B1A-A1F5-5D44ADE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D0B-EF2B-4151-90B3-8A34E32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3B5-F1DE-4DBE-B829-386FEA9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48E-F439-4C3B-868B-253EC32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034-26B8-49AC-BE41-150A749C2A3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7 Pomôž mi, Pane lásk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mi, Pane láska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k službe blížnym hoto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ich biedou nech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úcit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šade radosť rozd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údiacich uč ma k tebe v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domovu volať zo zlý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esť im tú zv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áš ich rá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oj chceš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i vieru v súž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u a nádej udeľ m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 tebou kráč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elo vpre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ehľadím už nikdy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tvoju lásku túžim m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vojich blížnych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ú prosbu vypoč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oje snahy upevňu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29:23Z</dcterms:modified>
  <cp:revision>20</cp:revision>
  <dc:subject/>
  <dc:title>Je veľký náš Pán, on slávy je Kráľ Nech do všetkých strán  spev vrúcnych znie chvál.</dc:title>
</cp:coreProperties>
</file>